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1.png" ContentType="image/png"/>
  <Override PartName="/ppt/media/image23.png" ContentType="image/png"/>
  <Override PartName="/ppt/media/image6.png" ContentType="image/png"/>
  <Override PartName="/ppt/media/image22.png" ContentType="image/png"/>
  <Override PartName="/ppt/media/image10.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5.png" ContentType="image/png"/>
  <Override PartName="/ppt/media/image14.png" ContentType="image/png"/>
  <Override PartName="/ppt/media/image3.png" ContentType="image/png"/>
  <Override PartName="/ppt/media/image2.png" ContentType="image/png"/>
  <Override PartName="/ppt/media/image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4"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576B-A036-4C70-BFC6-0DCE821E5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3775-8455-43A7-B563-74709324D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DFC5-A97E-4E79-B62A-29EDA28A8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72E4-13F2-428E-8734-06323252B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1704-B827-4D0A-82C2-6DCAAFC96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772F-B497-4D2A-AAF9-C50564479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C352-95BF-437D-A3E7-6EB71CABF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4B57-145F-4A13-8281-F601FD821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1627-40F5-4D2C-9070-C9CDB93F8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2797-520B-416F-B4EB-7897FEA19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695A-CECE-4CB9-88FE-36D0A1DE9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5E31-DD19-45D7-A47F-E9AC322ED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F7FA-4722-41AA-ABD1-9034C5586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5863-538A-44D1-A5AC-15F3C4C6D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D6BF-AF80-437C-9C78-408C50C33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52185-8F7E-4697-B8DF-72C98AF1E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0CCDE-C389-42B2-AE36-536833FE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A92CE5-9379-4602-AF77-C30989756E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A6048-C1CF-476D-A7A9-8A1C60ADE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44BDC-EA80-4502-B5DE-D2EED715D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27D1D5-3C2D-4987-8754-88036EF5B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71017-88FD-40FC-99F9-680DC8195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F093D-8FA8-40BA-AB6E-BE5835540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85A64-6477-454F-A7AD-369B41EB5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1468A-79B6-42C4-97A2-00A03AE178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99B0A7-72B9-482C-94D9-1811C3D668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8C1D6F-9491-426A-95ED-577D6BFF98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668DD-B3CB-4E49-9974-C4B9D4482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D9DA65-9C10-41B4-8F64-8830B89EE3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49DA7A-EB21-45C6-BF8C-1FCE5A3D05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442EEB-F3B5-4FC3-A6CB-4B1BA764D9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7AE54A-D8AD-40A3-A438-3926C2F1FE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6249B1-4465-4FBF-834E-B1C515B484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CFEA93-D2B6-4E29-95D6-204002073B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25DAD4-B648-4CCD-8E90-AC414EB6C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F0AE58-219E-42EB-9D39-DA81BA3021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5382E4-0F41-4D71-9344-75E5A8122F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69EF11-6BDF-434C-AB54-DCDE6D2900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ACF1B-BD10-4FFA-A94F-B13FC4811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45D11E-960E-48F7-A0B3-627823AF91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F5C11-9FA1-4B54-8554-CA1914AE4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7BC1E-637A-4A69-A242-FDEFEBFAA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12774-F1EE-4FD5-99BC-526D4D0E0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42E22-324F-4406-B3CD-FC5AD15F9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A61A3-1174-4FF2-A86A-CA31E3FD8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4987-668A-4EAA-9125-D1E5A4E8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67A11-A94A-4920-AB06-FA6D5FB44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D1B6-0DF6-44CD-A5B6-BA567368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F68D3-9C61-4F89-8CA5-4046F309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33849-0F50-45B4-9F64-8C1FF29B2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0BC4-145A-4695-A515-136BADDFA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9C764-AEE5-402E-BC84-25B2B1E24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F7635-9A56-4A2E-AC4A-6838E7BBF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6A4B10-7F07-48B5-A1BA-DB5EA5037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609C4-E9C1-471E-9718-7542AEC7A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A9C0B-2BAF-4B75-9F51-E91867F1B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560CC-ED0F-4815-9FB3-17F42DCE4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1BF31-DED9-4107-B382-B219304FF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27C6-73A3-4A74-A6F3-5B1AE799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B5B9A-0F1C-4120-9253-1EDA24385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79E0D-7E33-4FE5-B39D-3A84D9706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EC056-3379-49E0-B111-878DED879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C0A5F-B624-4EA4-AFEB-9396F8D36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EB611-C65B-4BCA-A1DA-66E6FE80B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B976A-52D6-4827-8A91-9BE3DDE1A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4E026-1120-4A62-97E3-EB01711D7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0BD1B-F909-47FE-B855-FAE4FEB15D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66D9CE-FB1B-4317-99A6-D3D009279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517A6-809B-472A-B3FF-68BA65B03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3BF8-DC41-42C6-86B7-7477399C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79391-E341-4672-B040-9D18927C3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70534-1458-4B74-8B74-71A076138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E4784-88CE-4F16-B611-8634CD822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582D6-A9A4-450E-BFBD-9151808A5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8EE05-8CA1-4BCD-91A4-8290C9B39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1FB82-9D2F-4317-8595-2536C5477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7B8F0-4996-4C43-8416-9F96E2A9C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D490F-D604-498E-A45E-830326D22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AD7454-63FB-402D-AE4B-71E25B20D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441A0-F006-422F-B675-96B65B1352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EF1E-A9F8-4BFA-A197-C9DD431A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B23874-EC31-4FEF-BAEC-4B4AA566E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AB30D-763C-4526-862C-B23AA84A4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DAE57-6033-4F87-A3BF-60F62B3B1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3BF69-40D1-4923-B987-EF210175B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04C4C-CD4B-436F-B0BE-176DFD61D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27E64-0244-43B9-9B83-6496D7AE7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03984-EE8F-4BF6-96CC-B57AB7DCD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4F6F5-A0F0-4730-9338-1C19E047C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142C8-064A-41F2-9AE6-FA93FEABE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F33AF-3CF3-49B7-B52D-0141C92C73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6F28-B00C-4048-A2D5-B9AC5152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0D6931-3ECA-40A4-9BF4-5CCDFABF0B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A098B6-FADB-4AA8-9931-924CAA3727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0DB8A-11C1-4724-B1F2-CC7703A97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FE1CB-34B1-4F84-A877-A2CEE66C3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63A4F-8B4E-43B2-8ADB-ADDDEF456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8F7C3D-D489-4E10-A5D9-A454C2144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DBF57-5A38-4F91-8918-2D7022835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C3B4D-44BB-4377-B719-93A08E54F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9972F-F157-44D7-8DE2-E2031B4E1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3B308E-F7B0-4B46-A343-282B71F94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026D-8367-4593-999D-B7B2E023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270DA9-4AC8-4029-B58A-614C0AD52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91380E-6887-4953-A5CB-817C42B7B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87F60-0BB4-45D3-985A-84EEC2112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B02FC-648E-403D-9D13-6FFA334ABF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99C3A-102C-4086-BBC9-E69F9F94C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54ED0-FD94-4305-B98D-7C3030959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4F770-7E0A-4AA5-83F8-578F3785F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BF2A5-2E23-48EC-BCF4-F31DCB7701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2DAAE-8BB2-4AD4-82C2-FEEF97E69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85FAD-C918-47F8-9576-9FDC5282E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128E-31B5-4EF9-A428-22C0C84BF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0FC88-B792-431F-8435-95D4A9D35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46993-438D-40EC-AC45-4D96CCF21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D4F16-DCBB-4CEA-8C72-ABEC35C47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76D045-D8D8-4E7C-849E-206139450B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0E6D08-7F3F-4BBB-BAEA-E8064517C9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A973D-1B6D-433D-8000-E33978FA0C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12BD8-C454-4D1A-BA19-AF2220469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EB3F7-1EB4-4EA3-A3B0-1AE58D1098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A3ED4-E30E-45EA-B50E-6B1F04FA71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F53BC-6CC0-44F1-A6BB-383505A28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73A6-9929-43EE-9FC3-C465311E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CD89E-B596-45CD-8FB6-DD63914C6B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C7FA5-7C06-43E7-8246-33E054429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C1677-5224-49C9-8689-BE11A7F0D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B656C-19E4-45BD-A1B1-BA730E4D9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A4E966-4FAF-499C-95D5-8AA580025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10CF69-37CA-4572-A807-5AB320A98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784E0F-14A7-463D-866F-78DEDF054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C3439C-3B79-431C-BCC3-DADA4D00AD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EB6CAB-3EB0-43CD-BACC-58EA1D4F25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466F79-4B6A-4C8D-B076-EC142468AC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172A-B282-45F2-95EE-CAD14DF5FD4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0185-9533-4CE9-9B1E-6A5D813B6D3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6D4D-549C-41DC-905E-4265F22F5CD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FAE6-3CD6-4EF6-B66B-BF71ED4ABC5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815D-C9A2-4F84-9989-4278039AFF27}"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80D8-AAF0-47FD-A848-4F29920079E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90D4-FCE5-4AFB-ABE3-2CAB989282F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18FC-5832-4EBC-8818-236AF6B3029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569D-C15F-463C-9C3F-0B7A3D20B0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3895-FBE2-4A28-B86B-892D5AE2C5E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ermangroup1.wikispaces.com/" TargetMode="External"/><Relationship Id="rId3" Type="http://schemas.openxmlformats.org/officeDocument/2006/relationships/hyperlink" Target="http://www.germangroup2.wikispaces.com/"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0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5"/>
          <p:cNvSpPr/>
          <p:nvPr/>
        </p:nvSpPr>
        <p:spPr>
          <a:xfrm>
            <a:off x="380880" y="838080"/>
            <a:ext cx="7620120" cy="467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LL E-learning Project 2009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esented by Nicole Donalds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rm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cus Quest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es the use of technology (wikis) improve Yrs 7 &amp; 8 student ability to use simple familiar expressions in supported situations in e-interac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5" name="Rectangle 3" descr=""/>
          <p:cNvPicPr/>
          <p:nvPr/>
        </p:nvPicPr>
        <p:blipFill>
          <a:blip r:embed="rId1"/>
          <a:stretch/>
        </p:blipFill>
        <p:spPr>
          <a:xfrm>
            <a:off x="103320" y="450720"/>
            <a:ext cx="8894520" cy="1152720"/>
          </a:xfrm>
          <a:prstGeom prst="rect">
            <a:avLst/>
          </a:prstGeom>
          <a:ln w="0">
            <a:noFill/>
          </a:ln>
        </p:spPr>
      </p:pic>
      <p:pic>
        <p:nvPicPr>
          <p:cNvPr id="486" name="Picture 5" descr=""/>
          <p:cNvPicPr/>
          <p:nvPr/>
        </p:nvPicPr>
        <p:blipFill>
          <a:blip r:embed="rId2"/>
          <a:stretch/>
        </p:blipFill>
        <p:spPr>
          <a:xfrm>
            <a:off x="380880" y="2209680"/>
            <a:ext cx="4267440" cy="3417840"/>
          </a:xfrm>
          <a:prstGeom prst="rect">
            <a:avLst/>
          </a:prstGeom>
          <a:ln w="9360">
            <a:solidFill>
              <a:srgbClr val="000000"/>
            </a:solidFill>
            <a:miter/>
          </a:ln>
        </p:spPr>
      </p:pic>
      <p:pic>
        <p:nvPicPr>
          <p:cNvPr id="487" name="Picture 6" descr=""/>
          <p:cNvPicPr/>
          <p:nvPr/>
        </p:nvPicPr>
        <p:blipFill>
          <a:blip r:embed="rId3"/>
          <a:stretch/>
        </p:blipFill>
        <p:spPr>
          <a:xfrm>
            <a:off x="4724280" y="2225520"/>
            <a:ext cx="4267440" cy="3418200"/>
          </a:xfrm>
          <a:prstGeom prst="rect">
            <a:avLst/>
          </a:prstGeom>
          <a:ln w="9360">
            <a:solidFill>
              <a:srgbClr val="000000"/>
            </a:solidFill>
            <a:miter/>
          </a:ln>
        </p:spPr>
      </p:pic>
      <p:sp>
        <p:nvSpPr>
          <p:cNvPr id="488" name="Text Box 7"/>
          <p:cNvSpPr/>
          <p:nvPr/>
        </p:nvSpPr>
        <p:spPr>
          <a:xfrm>
            <a:off x="380880" y="5715000"/>
            <a:ext cx="4191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2a: Student B1</a:t>
            </a:r>
            <a:r>
              <a:rPr b="1" lang="en-US" sz="1400" spc="-1" strike="noStrike">
                <a:solidFill>
                  <a:srgbClr val="000000"/>
                </a:solidFill>
                <a:latin typeface="Arial"/>
              </a:rPr>
              <a:t>’</a:t>
            </a:r>
            <a:r>
              <a:rPr b="1" lang="en-US" sz="1400" spc="-1" strike="noStrike">
                <a:solidFill>
                  <a:srgbClr val="000000"/>
                </a:solidFill>
                <a:latin typeface="Times New Roman"/>
              </a:rPr>
              <a:t>s use of Language on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kispace over a 6 week sample</a:t>
            </a:r>
            <a:endParaRPr b="0" lang="en-US" sz="1400" spc="-1" strike="noStrike">
              <a:solidFill>
                <a:srgbClr val="000000"/>
              </a:solidFill>
              <a:latin typeface="Arial"/>
            </a:endParaRPr>
          </a:p>
        </p:txBody>
      </p:sp>
      <p:sp>
        <p:nvSpPr>
          <p:cNvPr id="489" name="Text Box 9"/>
          <p:cNvSpPr/>
          <p:nvPr/>
        </p:nvSpPr>
        <p:spPr>
          <a:xfrm>
            <a:off x="4724280" y="5715000"/>
            <a:ext cx="42674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2b: Student B2</a:t>
            </a:r>
            <a:r>
              <a:rPr b="1" lang="en-US" sz="1400" spc="-1" strike="noStrike">
                <a:solidFill>
                  <a:srgbClr val="000000"/>
                </a:solidFill>
                <a:latin typeface="Arial"/>
              </a:rPr>
              <a:t>’</a:t>
            </a:r>
            <a:r>
              <a:rPr b="1" lang="en-US" sz="1400" spc="-1" strike="noStrike">
                <a:solidFill>
                  <a:srgbClr val="000000"/>
                </a:solidFill>
                <a:latin typeface="Times New Roman"/>
              </a:rPr>
              <a:t>s use of Language on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kispace over a 6 week s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1" name="Rectangle 3" descr=""/>
          <p:cNvPicPr/>
          <p:nvPr/>
        </p:nvPicPr>
        <p:blipFill>
          <a:blip r:embed="rId1"/>
          <a:stretch/>
        </p:blipFill>
        <p:spPr>
          <a:xfrm>
            <a:off x="103320" y="450720"/>
            <a:ext cx="8894520" cy="1152720"/>
          </a:xfrm>
          <a:prstGeom prst="rect">
            <a:avLst/>
          </a:prstGeom>
          <a:ln w="0">
            <a:noFill/>
          </a:ln>
        </p:spPr>
      </p:pic>
      <p:pic>
        <p:nvPicPr>
          <p:cNvPr id="492" name="Picture 5" descr=""/>
          <p:cNvPicPr/>
          <p:nvPr/>
        </p:nvPicPr>
        <p:blipFill>
          <a:blip r:embed="rId2"/>
          <a:stretch/>
        </p:blipFill>
        <p:spPr>
          <a:xfrm>
            <a:off x="152280" y="1905120"/>
            <a:ext cx="4343400" cy="3498840"/>
          </a:xfrm>
          <a:prstGeom prst="rect">
            <a:avLst/>
          </a:prstGeom>
          <a:ln w="9360">
            <a:solidFill>
              <a:srgbClr val="000000"/>
            </a:solidFill>
            <a:miter/>
          </a:ln>
        </p:spPr>
      </p:pic>
      <p:pic>
        <p:nvPicPr>
          <p:cNvPr id="493" name="Picture 6" descr=""/>
          <p:cNvPicPr/>
          <p:nvPr/>
        </p:nvPicPr>
        <p:blipFill>
          <a:blip r:embed="rId3"/>
          <a:stretch/>
        </p:blipFill>
        <p:spPr>
          <a:xfrm>
            <a:off x="4648320" y="1905120"/>
            <a:ext cx="4343400" cy="3475080"/>
          </a:xfrm>
          <a:prstGeom prst="rect">
            <a:avLst/>
          </a:prstGeom>
          <a:ln w="9360">
            <a:solidFill>
              <a:srgbClr val="000000"/>
            </a:solidFill>
            <a:miter/>
          </a:ln>
        </p:spPr>
      </p:pic>
      <p:sp>
        <p:nvSpPr>
          <p:cNvPr id="494" name="Text Box 7"/>
          <p:cNvSpPr/>
          <p:nvPr/>
        </p:nvSpPr>
        <p:spPr>
          <a:xfrm>
            <a:off x="228600" y="5486400"/>
            <a:ext cx="41148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3a: Student G1</a:t>
            </a:r>
            <a:r>
              <a:rPr b="1" lang="en-US" sz="1400" spc="-1" strike="noStrike">
                <a:solidFill>
                  <a:srgbClr val="000000"/>
                </a:solidFill>
                <a:latin typeface="Arial"/>
              </a:rPr>
              <a:t>’</a:t>
            </a:r>
            <a:r>
              <a:rPr b="1" lang="en-US" sz="1400" spc="-1" strike="noStrike">
                <a:solidFill>
                  <a:srgbClr val="000000"/>
                </a:solidFill>
                <a:latin typeface="Times New Roman"/>
              </a:rPr>
              <a:t>s use of Language on the wikispace over a 6 week sample</a:t>
            </a:r>
            <a:endParaRPr b="0" lang="en-US" sz="1400" spc="-1" strike="noStrike">
              <a:solidFill>
                <a:srgbClr val="000000"/>
              </a:solidFill>
              <a:latin typeface="Arial"/>
            </a:endParaRPr>
          </a:p>
        </p:txBody>
      </p:sp>
      <p:sp>
        <p:nvSpPr>
          <p:cNvPr id="495" name="Text Box 8"/>
          <p:cNvSpPr/>
          <p:nvPr/>
        </p:nvSpPr>
        <p:spPr>
          <a:xfrm>
            <a:off x="4800600" y="5486400"/>
            <a:ext cx="4038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3b: Student G2</a:t>
            </a:r>
            <a:r>
              <a:rPr b="1" lang="en-US" sz="1400" spc="-1" strike="noStrike">
                <a:solidFill>
                  <a:srgbClr val="000000"/>
                </a:solidFill>
                <a:latin typeface="Arial"/>
              </a:rPr>
              <a:t>’</a:t>
            </a:r>
            <a:r>
              <a:rPr b="1" lang="en-US" sz="1400" spc="-1" strike="noStrike">
                <a:solidFill>
                  <a:srgbClr val="000000"/>
                </a:solidFill>
                <a:latin typeface="Times New Roman"/>
              </a:rPr>
              <a:t>s use of Language on the wikispace over a 6 week s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7" name="Rectangle 3" descr=""/>
          <p:cNvPicPr/>
          <p:nvPr/>
        </p:nvPicPr>
        <p:blipFill>
          <a:blip r:embed="rId1"/>
          <a:stretch/>
        </p:blipFill>
        <p:spPr>
          <a:xfrm>
            <a:off x="103320" y="450720"/>
            <a:ext cx="8894520" cy="1152720"/>
          </a:xfrm>
          <a:prstGeom prst="rect">
            <a:avLst/>
          </a:prstGeom>
          <a:ln w="0">
            <a:noFill/>
          </a:ln>
        </p:spPr>
      </p:pic>
      <p:sp>
        <p:nvSpPr>
          <p:cNvPr id="498" name=""/>
          <p:cNvSpPr txBox="1"/>
          <p:nvPr/>
        </p:nvSpPr>
        <p:spPr>
          <a:xfrm>
            <a:off x="685800" y="1600200"/>
            <a:ext cx="7772400" cy="228600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interviews took place over the completion of this project. </a:t>
            </a:r>
            <a:endParaRPr b="0" lang="en-US" sz="2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 student from each group at very beginning</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Both sample groups as a whole in middle</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Both sample groups individual at end of course.</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4" marL="2057400" indent="-22860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99" name="Text Box 5"/>
          <p:cNvSpPr/>
          <p:nvPr/>
        </p:nvSpPr>
        <p:spPr>
          <a:xfrm>
            <a:off x="609480" y="3505320"/>
            <a:ext cx="7391520" cy="3124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Motivation was high in both sample group interviews.</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interview 1 - 100% of students said that yes, the wiki motivated them to learn better, whereas in Interview 2 - 85% of students said that they agreed.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son the student who did not agree gave was that in their opinion it was </a:t>
            </a:r>
            <a:r>
              <a:rPr b="0" i="1" lang="en-US" sz="2200" spc="-1" strike="noStrike">
                <a:solidFill>
                  <a:srgbClr val="000000"/>
                </a:solidFill>
                <a:latin typeface="Arial"/>
              </a:rPr>
              <a:t>“a lot easier to use pen and paper, and that the information was not going to disappear”</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1" name="Rectangle 3" descr=""/>
          <p:cNvPicPr/>
          <p:nvPr/>
        </p:nvPicPr>
        <p:blipFill>
          <a:blip r:embed="rId1"/>
          <a:stretch/>
        </p:blipFill>
        <p:spPr>
          <a:xfrm>
            <a:off x="103320" y="450720"/>
            <a:ext cx="8894520" cy="1152720"/>
          </a:xfrm>
          <a:prstGeom prst="rect">
            <a:avLst/>
          </a:prstGeom>
          <a:ln w="0">
            <a:noFill/>
          </a:ln>
        </p:spPr>
      </p:pic>
      <p:sp>
        <p:nvSpPr>
          <p:cNvPr id="502" name=""/>
          <p:cNvSpPr txBox="1"/>
          <p:nvPr/>
        </p:nvSpPr>
        <p:spPr>
          <a:xfrm>
            <a:off x="685800" y="1600200"/>
            <a:ext cx="7772400" cy="4114800"/>
          </a:xfrm>
          <a:prstGeom prst="rect">
            <a:avLst/>
          </a:prstGeom>
          <a:noFill/>
          <a:ln w="0">
            <a:noFill/>
          </a:ln>
        </p:spPr>
        <p:txBody>
          <a:bodyPr anchor="t">
            <a:normAutofit/>
          </a:bodyPr>
          <a:p>
            <a:pPr marL="343080" indent="-343080">
              <a:lnSpc>
                <a:spcPct val="8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Trebuchet MS"/>
              </a:rPr>
              <a:t>The interviews also showed that students felt the wiki had a positive impact in helping them learn between the lessons , </a:t>
            </a:r>
            <a:r>
              <a:rPr b="0" i="1" lang="en-US" sz="1900" spc="-1" strike="noStrike">
                <a:solidFill>
                  <a:srgbClr val="4e3b30"/>
                </a:solidFill>
                <a:latin typeface="Trebuchet MS"/>
              </a:rPr>
              <a:t>“it is “hard to remember all information between, helps to have the wiki”, </a:t>
            </a:r>
            <a:r>
              <a:rPr b="0" lang="en-US" sz="1900" spc="-1" strike="noStrike">
                <a:solidFill>
                  <a:srgbClr val="4e3b30"/>
                </a:solidFill>
                <a:latin typeface="Trebuchet MS"/>
              </a:rPr>
              <a:t>4 out of 7 students  when asked commented about being able to do the work during the week outside lesson time helped them to learn more. </a:t>
            </a:r>
            <a:endParaRPr b="0" lang="en-US" sz="1900" spc="-1" strike="noStrike">
              <a:solidFill>
                <a:srgbClr val="4e3b30"/>
              </a:solidFill>
              <a:latin typeface="Franklin Gothic Book"/>
            </a:endParaRPr>
          </a:p>
          <a:p>
            <a:pPr marL="343080" indent="-343080">
              <a:lnSpc>
                <a:spcPct val="8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Trebuchet MS"/>
              </a:rPr>
              <a:t>It was also the easiest way to measure cultural understanding of the students.</a:t>
            </a:r>
            <a:endParaRPr b="0" lang="en-US" sz="1900" spc="-1" strike="noStrike">
              <a:solidFill>
                <a:srgbClr val="4e3b30"/>
              </a:solidFill>
              <a:latin typeface="Franklin Gothic Book"/>
            </a:endParaRPr>
          </a:p>
          <a:p>
            <a:pPr lvl="3" marL="1600200" indent="-228600">
              <a:lnSpc>
                <a:spcPct val="80000"/>
              </a:lnSpc>
              <a:spcBef>
                <a:spcPts val="425"/>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5644e"/>
                </a:solidFill>
                <a:latin typeface="Trebuchet MS"/>
              </a:rPr>
              <a:t>“</a:t>
            </a:r>
            <a:r>
              <a:rPr b="0" lang="en-US" sz="1700" spc="-1" strike="noStrike">
                <a:solidFill>
                  <a:srgbClr val="a5644e"/>
                </a:solidFill>
                <a:latin typeface="Trebuchet MS"/>
              </a:rPr>
              <a:t>German culture is so different, it’s important to know this because you have to respect culture and language. We need to embrace their culture and understand that there is a lot of bad history (e.g. Jews), we need to be polite to them as been through a lot of heartache” </a:t>
            </a:r>
            <a:endParaRPr b="0" lang="en-US" sz="1700" spc="-1" strike="noStrike">
              <a:solidFill>
                <a:srgbClr val="4e3b30"/>
              </a:solidFill>
              <a:latin typeface="Franklin Gothic Book"/>
            </a:endParaRPr>
          </a:p>
          <a:p>
            <a:pPr lvl="3" marL="1600200" indent="-228600">
              <a:lnSpc>
                <a:spcPct val="80000"/>
              </a:lnSpc>
              <a:spcBef>
                <a:spcPts val="425"/>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a5644e"/>
                </a:solidFill>
                <a:latin typeface="Trebuchet MS"/>
              </a:rPr>
              <a:t>“</a:t>
            </a:r>
            <a:r>
              <a:rPr b="0" i="1" lang="en-US" sz="1700" spc="-1" strike="noStrike">
                <a:solidFill>
                  <a:srgbClr val="a5644e"/>
                </a:solidFill>
                <a:latin typeface="Trebuchet MS"/>
              </a:rPr>
              <a:t>helps me understand Germans better, they’re like us. It would help me relax more when with them and when I travel I am better suited to ‘fitting in’”.</a:t>
            </a:r>
            <a:endParaRPr b="0" lang="en-US" sz="1700" spc="-1" strike="noStrike">
              <a:solidFill>
                <a:srgbClr val="4e3b30"/>
              </a:solidFill>
              <a:latin typeface="Franklin Gothic Book"/>
            </a:endParaRPr>
          </a:p>
          <a:p>
            <a:pPr lvl="3" marL="1600200" indent="-22860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a5644e"/>
                </a:solidFill>
                <a:latin typeface="Trebuchet MS"/>
              </a:rPr>
              <a:t>	</a:t>
            </a:r>
            <a:r>
              <a:rPr b="0" i="1" lang="en-US" sz="1700" spc="-1" strike="noStrike">
                <a:solidFill>
                  <a:srgbClr val="a5644e"/>
                </a:solidFill>
                <a:latin typeface="Trebuchet MS"/>
              </a:rPr>
              <a:t>(Key competency: relating to others)</a:t>
            </a:r>
            <a:endParaRPr b="0" lang="en-US" sz="1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4" name="Rectangle 3" descr=""/>
          <p:cNvPicPr/>
          <p:nvPr/>
        </p:nvPicPr>
        <p:blipFill>
          <a:blip r:embed="rId1"/>
          <a:stretch/>
        </p:blipFill>
        <p:spPr>
          <a:xfrm>
            <a:off x="182520" y="1633680"/>
            <a:ext cx="8437680" cy="446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8" name="Rectangle 3" descr=""/>
          <p:cNvPicPr/>
          <p:nvPr/>
        </p:nvPicPr>
        <p:blipFill>
          <a:blip r:embed="rId1"/>
          <a:stretch/>
        </p:blipFill>
        <p:spPr>
          <a:xfrm>
            <a:off x="487440" y="225360"/>
            <a:ext cx="7980120" cy="1298520"/>
          </a:xfrm>
          <a:prstGeom prst="rect">
            <a:avLst/>
          </a:prstGeom>
          <a:ln w="0">
            <a:noFill/>
          </a:ln>
        </p:spPr>
      </p:pic>
      <p:sp>
        <p:nvSpPr>
          <p:cNvPr id="459" name=""/>
          <p:cNvSpPr txBox="1"/>
          <p:nvPr/>
        </p:nvSpPr>
        <p:spPr>
          <a:xfrm>
            <a:off x="685440" y="1447920"/>
            <a:ext cx="8077320" cy="495288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I am currently in my second year of teacher after completing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Conjoint Bachelor of Arts / Bachelor of Teaching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Majoring in History and German.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4e3b30"/>
                </a:solidFill>
                <a:latin typeface="Franklin Gothic Book"/>
                <a:ea typeface="Arial"/>
              </a:rPr>
              <a:t>Langauge background:</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Began learning German in High school – Year 9</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Continued German gaining bursary and then through University</a:t>
            </a:r>
            <a:endParaRPr b="0" lang="en-US" sz="2000" spc="-1" strike="noStrike">
              <a:solidFill>
                <a:srgbClr val="4e3b30"/>
              </a:solidFill>
              <a:latin typeface="Franklin Gothic Book"/>
            </a:endParaRPr>
          </a:p>
          <a:p>
            <a:pPr lvl="2" marL="1131480" indent="-226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Participated in a 2-month Exchange  in summer holidays between year 12 &amp; 13. Stayed with a family in Bavaria.</a:t>
            </a:r>
            <a:r>
              <a:rPr b="0" lang="en-NZ" sz="1800" spc="-1" strike="noStrike">
                <a:solidFill>
                  <a:srgbClr val="4e3b30"/>
                </a:solidFill>
                <a:latin typeface="Franklin Gothic Book"/>
                <a:ea typeface="Arial"/>
              </a:rPr>
              <a:t> </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1" name="Rectangle 3" descr=""/>
          <p:cNvPicPr/>
          <p:nvPr/>
        </p:nvPicPr>
        <p:blipFill>
          <a:blip r:embed="rId1"/>
          <a:stretch/>
        </p:blipFill>
        <p:spPr>
          <a:xfrm>
            <a:off x="487440" y="225360"/>
            <a:ext cx="7980120" cy="1298520"/>
          </a:xfrm>
          <a:prstGeom prst="rect">
            <a:avLst/>
          </a:prstGeom>
          <a:ln w="0">
            <a:noFill/>
          </a:ln>
        </p:spPr>
      </p:pic>
      <p:sp>
        <p:nvSpPr>
          <p:cNvPr id="462" name=""/>
          <p:cNvSpPr txBox="1"/>
          <p:nvPr/>
        </p:nvSpPr>
        <p:spPr>
          <a:xfrm>
            <a:off x="685440" y="1218960"/>
            <a:ext cx="8077320" cy="5181480"/>
          </a:xfrm>
          <a:prstGeom prst="rect">
            <a:avLst/>
          </a:prstGeom>
          <a:noFill/>
          <a:ln w="0">
            <a:noFill/>
          </a:ln>
        </p:spPr>
        <p:txBody>
          <a:bodyPr anchor="t">
            <a:normAutofit fontScale="96000"/>
          </a:bodyPr>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At my current School languages are taught for a 20 week course of 80 minute lessons, over 2 terms. The classes are mixed year 7&amp;8 and from a variety of different classes.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How could I use e-learning to really effectively change how I was teaching using the resources and time avaliable.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So it started with a dilemma: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How could I get students from different classes who I only saw once a week for such a short period of time to continue their learning at home and complete homework?</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After Researching, it seemed that the answer was to use a wikispace.</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4" name="Rectangle 3" descr=""/>
          <p:cNvPicPr/>
          <p:nvPr/>
        </p:nvPicPr>
        <p:blipFill>
          <a:blip r:embed="rId1"/>
          <a:stretch/>
        </p:blipFill>
        <p:spPr>
          <a:xfrm>
            <a:off x="560520" y="225360"/>
            <a:ext cx="7980120" cy="1189080"/>
          </a:xfrm>
          <a:prstGeom prst="rect">
            <a:avLst/>
          </a:prstGeom>
          <a:ln w="0">
            <a:noFill/>
          </a:ln>
        </p:spPr>
      </p:pic>
      <p:sp>
        <p:nvSpPr>
          <p:cNvPr id="465" name=""/>
          <p:cNvSpPr txBox="1"/>
          <p:nvPr/>
        </p:nvSpPr>
        <p:spPr>
          <a:xfrm>
            <a:off x="837720" y="1143000"/>
            <a:ext cx="7620120" cy="51055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rst I separated class into 6 support groups. They would sit in these during class time and this would also be their wiki groups.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etter was sent home to parents explaining idea, reason behind and expectations. It also included the username and password so parents were able to access and see exactly what their child was doing.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week the 6 groups would complete their homework online on the wikispace. Answering both language and cultural questions. </a:t>
            </a:r>
            <a:endParaRPr b="0" lang="en-US" sz="2400" spc="-1" strike="noStrike">
              <a:solidFill>
                <a:srgbClr val="4e3b30"/>
              </a:solidFill>
              <a:latin typeface="Franklin Gothic Book"/>
            </a:endParaRPr>
          </a:p>
          <a:p>
            <a:pPr marL="339480" indent="-3394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y also completed a question chain each week in the discussion board.</a:t>
            </a: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7" name="Rectangle 3" descr=""/>
          <p:cNvPicPr/>
          <p:nvPr/>
        </p:nvPicPr>
        <p:blipFill>
          <a:blip r:embed="rId1"/>
          <a:stretch/>
        </p:blipFill>
        <p:spPr>
          <a:xfrm>
            <a:off x="103320" y="450720"/>
            <a:ext cx="8894520" cy="115272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r purposes of the 2LL E-Learning project only 2 groups were choosen as focus groups. These groups consisted of 1 all boys and 1 all girls. When data was measured it was found that they were an exact replica of the whole cohort.</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69" name=""/>
          <p:cNvGraphicFramePr/>
          <p:nvPr/>
        </p:nvGraphicFramePr>
        <p:xfrm>
          <a:off x="1143000" y="3886200"/>
          <a:ext cx="6553080" cy="2619360"/>
        </p:xfrm>
        <a:graphic>
          <a:graphicData uri="http://schemas.openxmlformats.org/drawingml/2006/table">
            <a:tbl>
              <a:tblPr/>
              <a:tblGrid>
                <a:gridCol w="1636560"/>
                <a:gridCol w="1640160"/>
                <a:gridCol w="1639800"/>
                <a:gridCol w="1636560"/>
              </a:tblGrid>
              <a:tr h="77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etes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osttest 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ercentage ga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Boys Co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Bo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irls Co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ir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1" name="Rectangle 3" descr=""/>
          <p:cNvPicPr/>
          <p:nvPr/>
        </p:nvPicPr>
        <p:blipFill>
          <a:blip r:embed="rId1"/>
          <a:stretch/>
        </p:blipFill>
        <p:spPr>
          <a:xfrm>
            <a:off x="103320" y="450720"/>
            <a:ext cx="8894520" cy="1152720"/>
          </a:xfrm>
          <a:prstGeom prst="rect">
            <a:avLst/>
          </a:prstGeom>
          <a:ln w="0">
            <a:noFill/>
          </a:ln>
        </p:spPr>
      </p:pic>
      <p:sp>
        <p:nvSpPr>
          <p:cNvPr id="47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d1f1f"/>
                </a:solidFill>
                <a:uFillTx/>
                <a:latin typeface="Franklin Gothic Book"/>
                <a:hlinkClick r:id="rId2"/>
              </a:rPr>
              <a:t>www.germangroup1.wikispaces.c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d1f1f"/>
                </a:solidFill>
                <a:uFillTx/>
                <a:latin typeface="Franklin Gothic Book"/>
                <a:hlinkClick r:id="rId3"/>
              </a:rPr>
              <a:t>www.germangroup2.wikispaces.c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4" name="Rectangle 3" descr=""/>
          <p:cNvPicPr/>
          <p:nvPr/>
        </p:nvPicPr>
        <p:blipFill>
          <a:blip r:embed="rId1"/>
          <a:stretch/>
        </p:blipFill>
        <p:spPr>
          <a:xfrm>
            <a:off x="407880" y="225360"/>
            <a:ext cx="7980480" cy="1298520"/>
          </a:xfrm>
          <a:prstGeom prst="rect">
            <a:avLst/>
          </a:prstGeom>
          <a:ln w="0">
            <a:noFill/>
          </a:ln>
        </p:spPr>
      </p:pic>
      <p:sp>
        <p:nvSpPr>
          <p:cNvPr id="475" name=""/>
          <p:cNvSpPr txBox="1"/>
          <p:nvPr/>
        </p:nvSpPr>
        <p:spPr>
          <a:xfrm>
            <a:off x="533520" y="1447920"/>
            <a:ext cx="7772400" cy="41148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o ensure all aspects were reflected upon and assess there were 3 parts to how it was measured.</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76" name=""/>
          <p:cNvGraphicFramePr/>
          <p:nvPr/>
        </p:nvGraphicFramePr>
        <p:xfrm>
          <a:off x="990720" y="2286000"/>
          <a:ext cx="7162560" cy="4438800"/>
        </p:xfrm>
        <a:graphic>
          <a:graphicData uri="http://schemas.openxmlformats.org/drawingml/2006/table">
            <a:tbl>
              <a:tblPr/>
              <a:tblGrid>
                <a:gridCol w="1218960"/>
                <a:gridCol w="59436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o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urpo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retest/Post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measure student’s ability to understand familiar phrases and decode question and answer format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ey competency – using language, symbols and text (, 2007: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ikispa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measure their level of particip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ey competencies – Managing self, Participating and contributing, Thinking (Ministry of Education 2007: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bility to produce single, simple and complex senten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show ways in which the target culture is organised for different purposes and for different audiences (Ministry of Education, 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udent Vo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hifts in their learning and engage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ception of how e-learning supports their lear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8" name="Rectangle 3" descr=""/>
          <p:cNvPicPr/>
          <p:nvPr/>
        </p:nvPicPr>
        <p:blipFill>
          <a:blip r:embed="rId1"/>
          <a:stretch/>
        </p:blipFill>
        <p:spPr>
          <a:xfrm>
            <a:off x="487440" y="603360"/>
            <a:ext cx="7980120" cy="1304640"/>
          </a:xfrm>
          <a:prstGeom prst="rect">
            <a:avLst/>
          </a:prstGeom>
          <a:ln w="0">
            <a:noFill/>
          </a:ln>
        </p:spPr>
      </p:pic>
      <p:pic>
        <p:nvPicPr>
          <p:cNvPr id="479" name="Picture 9" descr=""/>
          <p:cNvPicPr/>
          <p:nvPr/>
        </p:nvPicPr>
        <p:blipFill>
          <a:blip r:embed="rId2"/>
          <a:stretch/>
        </p:blipFill>
        <p:spPr>
          <a:xfrm>
            <a:off x="152280" y="2209680"/>
            <a:ext cx="4343400" cy="3481560"/>
          </a:xfrm>
          <a:prstGeom prst="rect">
            <a:avLst/>
          </a:prstGeom>
          <a:ln w="0">
            <a:noFill/>
          </a:ln>
        </p:spPr>
      </p:pic>
      <p:pic>
        <p:nvPicPr>
          <p:cNvPr id="480" name="Picture 11" descr=""/>
          <p:cNvPicPr/>
          <p:nvPr/>
        </p:nvPicPr>
        <p:blipFill>
          <a:blip r:embed="rId3"/>
          <a:stretch/>
        </p:blipFill>
        <p:spPr>
          <a:xfrm>
            <a:off x="4648320" y="2209680"/>
            <a:ext cx="434340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2" name="Rectangle 6" descr=""/>
          <p:cNvPicPr/>
          <p:nvPr/>
        </p:nvPicPr>
        <p:blipFill>
          <a:blip r:embed="rId1"/>
          <a:stretch/>
        </p:blipFill>
        <p:spPr>
          <a:xfrm>
            <a:off x="103320" y="450720"/>
            <a:ext cx="8894520" cy="1152720"/>
          </a:xfrm>
          <a:prstGeom prst="rect">
            <a:avLst/>
          </a:prstGeom>
          <a:ln w="0">
            <a:noFill/>
          </a:ln>
        </p:spPr>
      </p:pic>
      <p:sp>
        <p:nvSpPr>
          <p:cNvPr id="483" name=""/>
          <p:cNvSpPr txBox="1"/>
          <p:nvPr/>
        </p:nvSpPr>
        <p:spPr>
          <a:xfrm>
            <a:off x="685800" y="1752480"/>
            <a:ext cx="7772400" cy="4114800"/>
          </a:xfrm>
          <a:prstGeom prst="rect">
            <a:avLst/>
          </a:prstGeom>
          <a:noFill/>
          <a:ln w="0">
            <a:noFill/>
          </a:ln>
        </p:spPr>
        <p:txBody>
          <a:bodyPr anchor="t">
            <a:normAutofit fontScale="93000"/>
          </a:bodyPr>
          <a:p>
            <a:pPr marL="318960" indent="-31896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order to measure language use on the wikispace 2 students were chosen from each group (1 higher achieving other lower achieving).</a:t>
            </a:r>
            <a:endParaRPr b="0" lang="en-US" sz="2800" spc="-1" strike="noStrike">
              <a:solidFill>
                <a:srgbClr val="4e3b30"/>
              </a:solidFill>
              <a:latin typeface="Franklin Gothic Book"/>
            </a:endParaRPr>
          </a:p>
          <a:p>
            <a:pPr marL="318960" indent="-31896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type of language they used was monitored over a 6 week period and placed into 3 different categories: </a:t>
            </a:r>
            <a:endParaRPr b="0" lang="en-US" sz="28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ngle word (Tag!).</a:t>
            </a:r>
            <a:endParaRPr b="0" lang="en-US" sz="24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ort simple phrase (wie heißt du?).</a:t>
            </a:r>
            <a:endParaRPr b="0" lang="en-US" sz="24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plex phrase (</a:t>
            </a:r>
            <a:r>
              <a:rPr b="0" lang="en-US" sz="2400" spc="-1" strike="noStrike">
                <a:solidFill>
                  <a:srgbClr val="4e3b30"/>
                </a:solidFill>
                <a:latin typeface="Trebuchet MS"/>
              </a:rPr>
              <a:t>Ich habe tastaturlehren an dem Montag).</a:t>
            </a:r>
            <a:endParaRPr b="0" lang="en-US" sz="2400" spc="-1" strike="noStrike">
              <a:solidFill>
                <a:srgbClr val="4e3b30"/>
              </a:solidFill>
              <a:latin typeface="Franklin Gothic Book"/>
            </a:endParaRPr>
          </a:p>
          <a:p>
            <a:pPr marL="318960" indent="-31896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9:42:06Z</dcterms:created>
  <dc:creator>Ministry of Education</dc:creator>
  <dc:description/>
  <dc:language>en-US</dc:language>
  <cp:lastModifiedBy>hannagca</cp:lastModifiedBy>
  <cp:lastPrinted>2009-11-30T23:00:22Z</cp:lastPrinted>
  <dcterms:modified xsi:type="dcterms:W3CDTF">2009-12-10T19:15:46Z</dcterms:modified>
  <cp:revision>4</cp:revision>
  <dc:subject/>
  <dc:title>PowerPoint Presentation</dc:title>
</cp:coreProperties>
</file>